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4A86-8ECA-47B1-886F-2E0FAAE0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6F06-F892-4492-A544-026CB75B3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BC01-4D5E-4247-9102-7C610F08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AE73-E664-44A0-973B-A4930483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7F5-5DC8-4B8A-8B97-1FA55B77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D06-4CFD-49A3-8338-0F99C635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D0F-2B1B-4EDC-8A95-CFC08FB2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C1EB-311C-46E2-8635-A901CD16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A0FC-2EED-40FA-99EB-3561290C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14F8-2C31-470E-858F-2BC4D5E6B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28F9-A454-4C1C-B5CB-0BA3A331D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2766-3804-44C2-A0BC-EA39A1072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B9E-742C-4E25-889F-F40A34FE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ED0-05FF-4252-8FDB-7222246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DE8-D81B-422F-9183-15B102C6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76F-A52B-49D0-A022-F1B8FC50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9BE81-0B1C-4CEE-9355-D1719BDFA6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5EBAB-0BDA-41F9-8ACC-5AFD6D73A2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6C88-8E0B-44A5-BFE2-689F93C623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EFE1D-C26B-4DDA-B693-ED743C6BBD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91AF1-CC64-4B12-8157-C1374A7004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FD0AC-A7F7-4A5A-91F8-7B49B47FDB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0C9F1-74DA-422C-9070-9537577CD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6BB-5BF0-492B-AF21-B84377D9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F30BB-95B8-4D0A-812B-1926B90C9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B1036-FEE7-4BD1-9B15-37D7EAE24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2EF41-6DF7-4E74-AB0E-63B87ABA09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94805-D1E4-45D5-A184-E82C21D9A5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AAB59-1525-4F58-A5B7-DE0332623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5A1-DF32-4407-822E-01AD68DE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F22-E9C7-490E-B692-EFABC128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C5A-A62C-46C3-8767-5B3CF621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9F5-970B-4FCD-A1C3-DC570BE8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C36-3FAC-4454-92A7-F9AE5552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EDF-646E-4983-AA49-4834245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165-40E5-461D-8302-438E93B3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AE06-BD20-484E-840F-1FF4A2098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08ED-19B2-4145-955B-53ED1E347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8610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ugmenting Hydro-MET Data Demands of Impact Assessmen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MI (Charlotte, Solo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(Tamo, Dan, Z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U (Seifu, Esay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ct sense simple scaling 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distribution of  maximum rainfall depth is invariant of time scale (Burlando and Rosso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 sense simple scaling 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tends the scale-invariant property to quantiles and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duration is 1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90720" y="3808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aximum Half-hour Rai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2268360" y="2421000"/>
                <a:ext cx="1727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λD</m:t>
                        </m:r>
                      </m:sub>
                    </m:sSub>
                    <m:limUpp>
                      <m:e/>
                      <m:lim>
                        <m:r>
                          <m:t xml:space="preserve">d</m:t>
                        </m:r>
                      </m:lim>
                    </m:limUpp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2195640" y="4076640"/>
                <a:ext cx="276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D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195640" y="5373720"/>
                <a:ext cx="2500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2010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aximum Half-hour Rainfall - 2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scaling_property.jpg"/>
          <p:cNvPicPr/>
          <p:nvPr/>
        </p:nvPicPr>
        <p:blipFill>
          <a:blip r:embed="rId1"/>
          <a:stretch/>
        </p:blipFill>
        <p:spPr>
          <a:xfrm>
            <a:off x="1166760" y="1268280"/>
            <a:ext cx="69343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127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aximum Half-hour Rainfall -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hart 13" descr=""/>
          <p:cNvPicPr/>
          <p:nvPr/>
        </p:nvPicPr>
        <p:blipFill>
          <a:blip r:embed="rId1"/>
          <a:stretch/>
        </p:blipFill>
        <p:spPr>
          <a:xfrm>
            <a:off x="463680" y="1407960"/>
            <a:ext cx="785160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94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for SWAT Modeling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umera_mon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994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for SWAT Modeling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Gumera_day.jp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1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39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for Spatial Down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971640" y="1171440"/>
            <a:ext cx="721980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1391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CFSR for Water Fluxes Study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centage of water fluxes relative to rainfall in wet season)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UBN_WET.tif"/>
          <p:cNvPicPr/>
          <p:nvPr/>
        </p:nvPicPr>
        <p:blipFill>
          <a:blip r:embed="rId1"/>
          <a:srcRect l="7967" t="3578" r="12234" b="3343"/>
          <a:stretch/>
        </p:blipFill>
        <p:spPr>
          <a:xfrm>
            <a:off x="1066680" y="1193760"/>
            <a:ext cx="7177320" cy="56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12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esolution reanalysis data had great potential to improve modeling of landscap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SR data has comparable performance as gauged climate data for SWAT modeling in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tial pattern of CFSR data is useful for spatial downscaling and bias correction of GC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er fluxes of the CFSR data could be to study large-scale fluxes without doing cumbersome data assim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70c0"/>
                </a:solidFill>
                <a:latin typeface="Arial"/>
              </a:rPr>
              <a:t>CFSR Data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114280"/>
            <a:ext cx="404028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SR_Grids_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754000"/>
            <a:ext cx="4040280" cy="265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s’ Center Location Fil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FSR_Eth_Grids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SR Data File Names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P1&lt;xx&gt;2&lt;yy&gt;_Eth.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xx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grid number in west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yy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grid number in north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2114280"/>
            <a:ext cx="404172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SR_SWAT_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754000"/>
            <a:ext cx="4041720" cy="32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s’ Center Locatio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.DBF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T Input File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cc&gt;1&lt;xx&gt;2&lt;yy&gt;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cc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limate variables code (P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, HM, SL and 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ively for rainfal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, rela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ity, solar radiation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spe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Placeholder 2"/>
          <p:cNvSpPr/>
          <p:nvPr/>
        </p:nvSpPr>
        <p:spPr>
          <a:xfrm>
            <a:off x="455760" y="5867280"/>
            <a:ext cx="403992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SR_W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nthly statistics and grids’ center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5219640" cy="111420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landscape processes requires detailed climatic and geographic data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stations in most parts of Africa are very sparse and most watersheds are un-gau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records are incomplete; high percentage of missing data and releva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data accessibility due to lack of data sharing agreement among trans-boundary riparia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resolution global reanalysis data for SW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ing applications i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Global Climate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295280"/>
          <a:ext cx="8229600" cy="45482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371600"/>
                <a:gridCol w="1447560"/>
                <a:gridCol w="28195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Horiz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1 –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C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, mean and max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hr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 –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, 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hr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 –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hr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2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8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ly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variables,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ical quant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limate Forecast and Reanalysis System (CF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upled atmosphere-ocean-land-sea 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ilates satellite radiances instead of the retrieved temperature and humidit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for changing CO2 and other trace gases, and solar vari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r spatial (~38km) and temporal (hourly and daily)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ilates hydrological quantities from a parallel LSM forced by CMAP and CPC unified daily gaug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generator files for areas with missing and incomplete climat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radiation, relative humidity, wind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lf-hour rai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T weather input files for un-gauged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downscaling and bias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of large-scale water and energy fl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304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pplications of CFS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Data for SWA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295280"/>
          <a:ext cx="7696080" cy="4530960"/>
        </p:xfrm>
        <a:graphic>
          <a:graphicData uri="http://schemas.openxmlformats.org/drawingml/2006/table">
            <a:tbl>
              <a:tblPr/>
              <a:tblGrid>
                <a:gridCol w="2844720"/>
                <a:gridCol w="1133640"/>
                <a:gridCol w="207468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SR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SR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ion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T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86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Temperature at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7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Temperature at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7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al wind at 10m (Zonal and Merid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0.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speed at 2m, m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ward Solar Radiation fl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0.08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Humidity at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at ground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al gas law and saturation vapor pressure equ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ly Precipit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ing theory and factor with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half-hour rainfall,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66680" y="380880"/>
            <a:ext cx="74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Gumera: CFSR vs. Gauge Dat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CFSR_Stns_mon.jpg"/>
          <p:cNvPicPr/>
          <p:nvPr/>
        </p:nvPicPr>
        <p:blipFill>
          <a:blip r:embed="rId1"/>
          <a:stretch/>
        </p:blipFill>
        <p:spPr>
          <a:xfrm>
            <a:off x="109440" y="1413000"/>
            <a:ext cx="89251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880"/>
            <a:ext cx="74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Gumera: CFSR vs. Gauge Dat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FSR_Stns_scater.jpg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avg_ubn.tif"/>
          <p:cNvPicPr/>
          <p:nvPr/>
        </p:nvPicPr>
        <p:blipFill>
          <a:blip r:embed="rId1"/>
          <a:stretch/>
        </p:blipFill>
        <p:spPr>
          <a:xfrm>
            <a:off x="1066680" y="66600"/>
            <a:ext cx="5788080" cy="6867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6553080" y="22860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Monthly mean Rain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8:49Z</dcterms:created>
  <dc:creator>sseyoum</dc:creator>
  <dc:description/>
  <dc:language>en-US</dc:language>
  <cp:lastModifiedBy>LeBorgne, Ewen (ILRI)</cp:lastModifiedBy>
  <dcterms:modified xsi:type="dcterms:W3CDTF">2012-11-13T06:27:25Z</dcterms:modified>
  <cp:revision>35</cp:revision>
  <dc:subject/>
  <dc:title>Evaluating Water Resources:  Upscaling Impacts of RMS</dc:title>
</cp:coreProperties>
</file>